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7D57-BF55-4CE9-9847-CD3AA4EF327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5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7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7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5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29A-C827-46E9-9D59-126A4F99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D1F-0D60-4682-BB3C-3DE1DDD7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507-C82B-474A-9808-A7CDFAF1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379-92CA-411C-B630-931E4B5A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91A-66C4-4135-A163-60ACC9D5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76C-1A2A-4A33-B5D8-A1A2174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840-4C0F-43FA-9EA8-B9D0FAC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F7D-ECD5-413A-B851-335800D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FC0-CF62-4121-81B5-0F5DFF6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406-FC55-4927-9FAD-CDD07EC4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727-E960-4572-9E29-F6221BB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BFF-FF92-4CC6-AA19-806CE4C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1E75-728D-490B-A8C1-EE6257BF7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496360" cy="216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RASMUS +</a:t>
            </a:r>
            <a:br>
              <a:rPr sz="40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Key Action 2 Cooperation for innovation and exchange of good practices</a:t>
            </a:r>
            <a:br>
              <a:rPr sz="4000"/>
            </a:br>
            <a:br>
              <a:rPr sz="36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apacity building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for higher education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of the internationalisation dimension of higher education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troduction of Bologna-type reforms (three-level cycle system, quality assurance, evaluation, etc.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lementation of transparency tools such as credit systems, accreditation procedures, guidelines for the recognition of prior and non-formal learning etc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stablishment of National Qualification Framework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and implementation of internal and external quality assurance systems/guidelin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and implementation of new approaches and tools for policy making and monitoring, including the establishment of representative bodies, organisations or associa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the integration of education, research and innov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8E7-7722-4E3F-A5D6-37EE9A89E7FC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8000"/>
          </a:bodyPr>
          <a:p>
            <a:pPr marL="197640" indent="-19764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rough for instance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urveys and studies on specific reform issu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policy and expert advice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conferences, seminars, workshops, round tables (which should result in operational conclusions and recommendations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staff trainings on policy issues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staff trainings (which may include the production of training manuals and guidelines) involving teaching and support staff, technicians as well as university administrators and managers.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awareness-raising campaign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B228-EC8F-4F43-8BE5-8EB50D4A079B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1000"/>
          </a:bodyPr>
          <a:p>
            <a:pPr marL="173880" indent="-17388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Who can participate 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y public or private organisation offering higher education degrees or other recognised tertiary education level qualifications (defined a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igher education institu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d recognised as such by the competent national authority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y public or private organisation active in the labour market or in the fields of education. For example, such organisation can be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public, private small medium or large enterprise (including social enterprises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public body at local, regional or national level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social partner or other representative of working life, including chambers of commerce, craft/professional associations and trade un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research institute, foundatio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non-profit organisation, association, NGO (including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ational or international associations or networks of higher education institutions, students or teachers associations, etc.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	</a:t>
            </a: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Etc…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B7F-FB2A-4012-A840-3B6E8514084D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700280"/>
            <a:ext cx="8445240" cy="302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  <a:ea typeface="Verdana"/>
              </a:rPr>
              <a:t>Who can appl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a higher education institution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an association or organisation of higher education institutions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d4a81"/>
                </a:solidFill>
                <a:uFillTx/>
                <a:latin typeface="Verdana"/>
              </a:rPr>
              <a:t>only for Structural Projects: a legally recognised </a:t>
            </a: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national or international rector, teacher or student organ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 </a:t>
            </a: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located in a Programme or a Partner Countr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igher education institutions (HEIs) located in a Programme Country must hold a valid Erasmus Charter for Higher Education (ECHE). An ECHE is not required for participating HEIs in Partner Countri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45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pplicant institutions must have a PIC numbe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AC3B-A760-4B1B-8D5E-2630A233BCC8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4360" y="119700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Centrally managed by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Duration: 2 or 3 yea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Maximum grant: </a:t>
            </a: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Alignement:  1 million € max (with possibility of less for small envelopes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Unit costs and lump sums wherever possibl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Will cover programme and partner country staff costs (up to 40% max.), equipment for partner countries (up to 30% max), mobility related to the activities required to reach objectives, other costs (translation, printing etc) and overheads (up to 2,5%). Minimum 10% co-financing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EEB-A9A0-4ED3-81C7-C9525A58543C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19526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Verdana"/>
                <a:ea typeface="Verdana"/>
              </a:rPr>
              <a:t>Conclusion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Focus on reforms and capacity build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Expected impact: organisations, institutions and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Openess and flexibility of the instru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Bottom up approac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Exchange of practices / experience among pe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Articulation with country/region needs and local policy priorities (priorities, consultation proces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06D-B641-476B-A6BB-3102883F1C03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0920" y="2491920"/>
            <a:ext cx="4535640" cy="208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Thank you for your attention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2000"/>
          </a:bodyPr>
          <a:p>
            <a:pPr marL="313920" indent="-3139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What is it abou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2 different starting poin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Continuation and expansion of the current success stories (Alfa, Edulink and Tempu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A funding mechanism to support cooperation between Europe and eligible Partner Countries in high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FE4-F186-45C3-B176-5889506B0DA4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45000"/>
          </a:bodyPr>
          <a:p>
            <a:pPr marL="128520" indent="-1285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Objectiv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Improve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quality and relevance of higher education in </a:t>
            </a: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partner countrie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Enhance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competences, skills and relevance of HE for the labour market and society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management, governance and innovation capacities, as well as the internationalisation of  HEIs 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capacities of national authorities to modernise their higher education system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Foster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regional integration and cooperation across different regions of the world through joint initiatives, sharing of good practices and cooperation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Promote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voluntary convergence with EU developments in higher education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people-to-people contact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Support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The objectives of the Communications </a:t>
            </a: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EU Higher Education in the World 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and the </a:t>
            </a: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Agenda for Change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1C1D-65E2-47C0-ACA1-FEAC5784B1B2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11280" y="1916280"/>
            <a:ext cx="8362800" cy="3528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39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d4a81"/>
                </a:solidFill>
                <a:latin typeface="Verdana"/>
              </a:rPr>
              <a:t>Some Background for Latin America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46,5 million Euro available for 2014-2017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1st Call in Septembe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cus on participation of higher education institutions from lower middle-income countries and from less developed region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7AA-EF69-497F-B3BE-CF2F7D01C38F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052640"/>
            <a:ext cx="868680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36000"/>
          </a:bodyPr>
          <a:p>
            <a:pPr marL="122760" indent="-122760" algn="ctr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d4a81"/>
                </a:solidFill>
                <a:latin typeface="Tahoma"/>
              </a:rPr>
              <a:t>Program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33 (28 Member States, Turkey, FYRoM, Iceland, Liechtenstein and Norway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4a81"/>
                </a:solidFill>
                <a:latin typeface="Tahoma"/>
              </a:rPr>
              <a:t>Partner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Regions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1:</a:t>
            </a: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Western Balkans (countries not having a N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2: Neighbouring countries in Eastern Europ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3: Neighbouring countries in the Southern Mediterranea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4: Rus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5: A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6: Central A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7: Latin Americ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8: </a:t>
            </a:r>
            <a:r>
              <a:rPr b="0" lang="en-GB" sz="1800" spc="-1" strike="noStrike">
                <a:solidFill>
                  <a:srgbClr val="0d4a81"/>
                </a:solidFill>
                <a:latin typeface="Tahoma"/>
              </a:rPr>
              <a:t>Iran, Iraq, Yeme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4a81"/>
                </a:solidFill>
                <a:latin typeface="Tahoma"/>
              </a:rPr>
              <a:t>9: </a:t>
            </a: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South Afric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10: ACP countri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A8A-AF04-43C3-BE3D-E792F107F79F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3" name="Picture 2" descr="C:\Users\payerar\Desktop\Photo der Erde.jpg"/>
          <p:cNvPicPr/>
          <p:nvPr/>
        </p:nvPicPr>
        <p:blipFill>
          <a:blip r:embed="rId1"/>
          <a:stretch/>
        </p:blipFill>
        <p:spPr>
          <a:xfrm>
            <a:off x="5176800" y="4745160"/>
            <a:ext cx="3967200" cy="211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46000"/>
          </a:bodyPr>
          <a:p>
            <a:pPr marL="156960" indent="-15696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How does it work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Short and mid-term projects (2 or 3 year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Put forward by consortia of institutions from EU and Partner countr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Selected on the basis of open and highly competitive calls for proposal (approx, 15% succes rate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Each project is coordinated/represented by a coordinating HEI from the EU or the Partner countries (power of attorne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5 main principl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Targets: institutions and systems rather than individua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Relevance to needs of countries and institu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International cooperation as a mea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Bottom-up approa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Emphasis put on institutional cooperation (commitment and impact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132-4ADC-48C4-8718-494B6D46D265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4000"/>
          </a:bodyPr>
          <a:p>
            <a:pPr marL="183960" indent="-18396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Activities for higher educatio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Focus on curriculum development, modernisation of teaching approaches, of governance and functioning of HEIs, strengthening relations between HEIs and the wider economic and social environmen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d4a81"/>
                </a:solidFill>
                <a:latin typeface="Verdana"/>
              </a:rPr>
              <a:t>Impact at institutional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Focus on modernisation of policies, governance and management of higher education systems, strengthening of relations between higher education systems and the wider societal and economic environmen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d4a81"/>
                </a:solidFill>
                <a:latin typeface="Verdana"/>
              </a:rPr>
              <a:t>Impact on </a:t>
            </a:r>
            <a:r>
              <a:rPr b="1" i="1" lang="en-GB" sz="1600" spc="-1" strike="noStrike">
                <a:solidFill>
                  <a:srgbClr val="0d4a81"/>
                </a:solidFill>
                <a:latin typeface="Verdana"/>
              </a:rPr>
              <a:t>higher education systems and reforms at national and/or regional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AE1-18F2-42C4-BF81-C54C5787B37D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, testing and adaptation of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urricula, courses, learning materials and tools, learning and teaching methodologies and pedagogical approaches, especially those delivering key competences and basic skills, language skills, entrepreneurship education, and focusing on the use of IC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ew forms of practical training schemes and study of real life cases in business and industry, university-enterprise cooperation, including the creation of business start-up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ew forms of learning and providing education and training, notably strategic use of open and flexible learning, virtual mobility, open educational resources and better exploitation of the ICT potential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guidance, counselling and coaching methods and tool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ools and methods for professionalization and professional development of academic and administrative staff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quality assurance at programme and institution level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3B58-AB56-4B65-A518-C08033048857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9000"/>
          </a:bodyPr>
          <a:p>
            <a:pPr marL="201240" indent="-20124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new governance and management systems and structures, modern university services e.g. for financial management, international relations, student counselling and guidance, academic affairs and resear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of the internationalisation of HEI and the capacity to network effectively in research, scientific and technological innovation (international openness of curricula, student services, inter-institutional mobility schemes, scientific cooperation and knowledge transfer…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upgrading of facilities necessary to the implementation of innovative practices (e.g. for new curriculum and teaching methods, for the development of new services, etc.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rganisation of staff trainings involving teaching and support staff, technicians as well as university administrators and manager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198-D948-49C9-BAE5-9E0563572596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ENNAN Deirdre (EAC)</cp:lastModifiedBy>
  <cp:lastPrinted>2013-09-18T09:56:39Z</cp:lastPrinted>
  <dcterms:modified xsi:type="dcterms:W3CDTF">2014-06-23T13:22:16Z</dcterms:modified>
  <cp:revision>402</cp:revision>
  <dc:subject/>
  <dc:title>Slide 1</dc:title>
</cp:coreProperties>
</file>